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9FF-9847-4062-9D2D-56A026E1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D56-9056-44DB-A30E-D5ED06AB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0B6-3BE2-4D69-98F3-F1EE5DA2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A3AA-2379-4F82-B13E-1E3CA6B0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986-FB87-4A0D-9CF5-9C76AF18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0DB-9160-4455-9934-90397FCC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9E33-22B2-459B-B38B-85A3B92C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9FF-1ACE-4CA5-AE40-E371EAE8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1EF4-120D-47A5-912A-FED46FE8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251-2405-4BEF-9DBF-F6ACB6A5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8FF-AE66-4850-AD1E-BFE0A0E4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26CB-C11A-45FF-82DD-2C047491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A2C2-E0BC-4207-997A-6EA40CEA21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чет по функциональной диагности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а 30 – таблицы 5401, 5402, 54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ЭКГ дистанционно – строка 3 таблицы 5402 и строка 51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хоКГ, УЗ исследование сосудов, ЭхоЭГ – в отчет по ультразвуковой диагностике (т. 51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ояснительная запис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Штаты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если совместители – внешние или внутренние. Внутренние – основная специа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Аппаратур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название – фирма производитель – год выпуска – тех. Состоя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taly.barkan@yandex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18:43:47Z</dcterms:created>
  <dc:creator>пк</dc:creator>
  <dc:description/>
  <dc:language>en-US</dc:language>
  <cp:lastModifiedBy>пк</cp:lastModifiedBy>
  <dcterms:modified xsi:type="dcterms:W3CDTF">2024-12-11T19:50:43Z</dcterms:modified>
  <cp:revision>2</cp:revision>
  <dc:subject/>
  <dc:title>Отчет по функциональной диагностике</dc:title>
</cp:coreProperties>
</file>